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561924-E94E-441B-A3EF-F7661A7003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3D9C8-1317-43B3-A6F8-58DC48BC1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105304-BA92-4EB0-8532-A4CA605C6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171BF-BA5E-4BC0-B5EE-6D1DF68C3F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A27ED-36DB-4611-8FD5-FDABF3096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F8AE7-0C37-4D3E-9D75-CCB244E84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59B65-F29A-405E-A936-F4A0BD316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598F7-B200-48A2-8133-D726E4AEF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008BE-E8C9-4B36-A44E-05EBC5506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DC1E8-9EB3-4B7D-A0E9-3EA0C626D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46C3A-3453-45A1-9C55-6F736DCD4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AE84E-7EC0-4184-A3C4-3F9A3C0FF9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72214-15C9-4AC1-A7F0-4E889D0BF3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6" name="Picture 5" descr=""/>
          <p:cNvPicPr/>
          <p:nvPr/>
        </p:nvPicPr>
        <p:blipFill>
          <a:blip r:embed="rId1"/>
          <a:stretch/>
        </p:blipFill>
        <p:spPr>
          <a:xfrm>
            <a:off x="4724280" y="1371600"/>
            <a:ext cx="3619800" cy="361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cp:lastModifiedBy>
  <dcterms:modified xsi:type="dcterms:W3CDTF">2012-06-18T13:44:35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